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2DD93-7C8C-4DED-88AA-01CF4112E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6597-59F6-4132-908C-81B2805B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B2DB2-BCBC-40DE-8D43-A0AA7E238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09E88-E8F3-4F32-81D5-5ABC2E7CD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4237-B80F-4761-B885-156627AF2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A049B-0461-44EB-A181-37FA49F6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53E8F-B491-4B39-A3F8-B98C8856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C46B2-E658-4311-88C6-5AA49604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1F41-1CAE-4861-8539-7ED0D618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DF0E9-AB33-431A-A71E-A1330829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21FC-757E-4E85-A18F-0430F624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52B5-E259-456B-9232-A82BEDF48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F922-65FA-40EB-A8F8-24AE4CEE0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rtgchina.uni-hohenheim.de/region"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ese Histo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lyssa Frisco, Samantha Valentino, Colin Corde, and Ally Ivanits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abf3b7"/>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s Geograph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s geography has many features including the Tibetan Plateau and the North China Plain. It also includes the Himalayas. China is a land of contrasts in land, climate, and ways of life of the people who live there due its massive size.  The North China Plain is where people mostly get their food. It is heavily populated  today. The Tibetan Plateau is called the Roof of the World. It is located near the Himalayas- a mountain range.</a:t>
            </a:r>
            <a:endParaRPr b="0" lang="en-US" sz="2000" spc="-1" strike="noStrike">
              <a:solidFill>
                <a:srgbClr val="000000"/>
              </a:solidFill>
              <a:latin typeface="Arial"/>
            </a:endParaRPr>
          </a:p>
        </p:txBody>
      </p:sp>
      <p:sp>
        <p:nvSpPr>
          <p:cNvPr id="4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ig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religion includes Daoism, Buddhism, and, Confucianism. Daoism is belief in finding the way through life. Buddhism originated in India and China adopted it as their religion. Confucianism was taught by Confucius. A sense of humanity, respect for the family, and humility or modesty are the virtues that are at the core of Confucianism.</a:t>
            </a:r>
            <a:endParaRPr b="0" lang="en-US" sz="2400" spc="-1" strike="noStrike">
              <a:solidFill>
                <a:srgbClr val="000000"/>
              </a:solidFill>
              <a:latin typeface="Arial"/>
            </a:endParaRPr>
          </a:p>
        </p:txBody>
      </p:sp>
      <p:pic>
        <p:nvPicPr>
          <p:cNvPr id="49" name="" descr=""/>
          <p:cNvPicPr/>
          <p:nvPr/>
        </p:nvPicPr>
        <p:blipFill>
          <a:blip r:embed="rId1"/>
          <a:stretch/>
        </p:blipFill>
        <p:spPr>
          <a:xfrm>
            <a:off x="5105520" y="2133720"/>
            <a:ext cx="34290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Zhou Dynast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Zhou Dynasty was broken into two parts- the Eastern Zhou and the Western Zhou. The Western Zhou was the first period. Most of the people worked as farmers growing beans, wheat, rice, and fruits. The Eastern Zhou was considered as the “golden age”.</a:t>
            </a:r>
            <a:endParaRPr b="0" lang="en-US" sz="2400" spc="-1" strike="noStrike">
              <a:solidFill>
                <a:srgbClr val="000000"/>
              </a:solidFill>
              <a:latin typeface="Arial"/>
            </a:endParaRPr>
          </a:p>
        </p:txBody>
      </p:sp>
      <p:pic>
        <p:nvPicPr>
          <p:cNvPr id="52" name="" descr=""/>
          <p:cNvPicPr/>
          <p:nvPr/>
        </p:nvPicPr>
        <p:blipFill>
          <a:blip r:embed="rId1"/>
          <a:stretch/>
        </p:blipFill>
        <p:spPr>
          <a:xfrm>
            <a:off x="4648320" y="1806480"/>
            <a:ext cx="4038480" cy="41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fucianis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cianism is a belief. It was taught by Confucius. He believed that a sense of humanity, respect for the family, and modesty or humility was at the core of his teachings.</a:t>
            </a:r>
            <a:endParaRPr b="0" lang="en-US" sz="2800" spc="-1" strike="noStrike">
              <a:solidFill>
                <a:srgbClr val="000000"/>
              </a:solidFill>
              <a:latin typeface="Arial"/>
            </a:endParaRPr>
          </a:p>
        </p:txBody>
      </p:sp>
      <p:pic>
        <p:nvPicPr>
          <p:cNvPr id="55" name="" descr=""/>
          <p:cNvPicPr/>
          <p:nvPr/>
        </p:nvPicPr>
        <p:blipFill>
          <a:blip r:embed="rId1"/>
          <a:stretch/>
        </p:blipFill>
        <p:spPr>
          <a:xfrm>
            <a:off x="4800600" y="182880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s://rtgchina.uni-hohenheim.de/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China Pl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history-of-china.com/southern-northern-dynasty/flourishment-of-buddhism.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depts.washington.edu/chinaciv/1xarzhou.ht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Dynas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thefamouspeople.com/profiles/confucius-84.ph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13:36:08Z</dcterms:created>
  <dc:creator>Administrator</dc:creator>
  <dc:description/>
  <dc:language>en-US</dc:language>
  <cp:lastModifiedBy>aivanitski</cp:lastModifiedBy>
  <dcterms:modified xsi:type="dcterms:W3CDTF">2011-10-28T13:28:43Z</dcterms:modified>
  <cp:revision>4</cp:revision>
  <dc:subject/>
  <dc:title>Chinese History</dc:title>
</cp:coreProperties>
</file>